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B22-0F2A-4963-A6FF-0A2A823E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B4F-3BC4-4224-A95C-53CE1ADF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B16-456F-4B25-AC37-33F7209B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6CE-6210-43BA-852E-87B6C23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B10-2035-4A20-A659-50AD368A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E55-6B1B-41DD-946C-894C654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D9C-CBD7-474A-907F-2DDC635F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415-3F44-4EBC-B8E4-377C871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2A1-D016-4D8B-8A47-6163D4E1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5F-A268-4D51-8425-4A161B2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4BE-B0A6-4A28-932E-C485293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D1E-2C2D-4519-93D8-65AB717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397-63C8-47A1-B1EE-9494DD7B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, bordering the Persian Gulf and the Red Sea, north of Y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roleum, natural gas, iron ore, gold,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ve coastlines on Persian Gulf and Red Sea provide great leverage on shipping (especially crude oil) through Persian Gulf and Suez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il-enriched economy has brought some 5.6 million resident foreigners—mostly from Arab states or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ms within the king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/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, dry desert with great temperature extr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uninhabited, sandy 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07:21Z</dcterms:created>
  <dc:creator>amberlblake</dc:creator>
  <dc:description/>
  <dc:language>en-US</dc:language>
  <cp:lastModifiedBy>amberlblake</cp:lastModifiedBy>
  <dcterms:modified xsi:type="dcterms:W3CDTF">2009-02-16T19:27:25Z</dcterms:modified>
  <cp:revision>2</cp:revision>
  <dc:subject/>
  <dc:title>Slide 1</dc:title>
</cp:coreProperties>
</file>